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D9918-EC0A-45D8-AF4E-940271EC8FC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CD77D-E29C-4277-AB95-2670E074978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40A2-C45B-4885-8ACB-95EC96B83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05B3-AAB0-49FE-A662-19FA16793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6CCA-C2C5-472B-9A22-EB4747E4A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F67B-3BD2-44E3-AB97-FCEDF0612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A6AE-152E-44DF-9DF9-BD8593E71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F7EE-52D1-442C-AFD9-C8B570239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1EEC-05A7-404F-BE0B-5451AE568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112D-39EA-41DF-9310-C98090D68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6B21-D57F-4259-91C9-DD7690D76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F522-32BA-465A-B993-15E095A7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8AC5-FB61-437E-9D05-75358895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B327-0504-484C-AEAE-FE16AF7D8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4EA79-EA58-4C8C-91F0-A3C1D06E8F0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46080"/>
            <a:ext cx="7772400" cy="166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基本科研业务费项目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2015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年度结题验收汇报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Rectangle 1034"/>
          <p:cNvSpPr/>
          <p:nvPr/>
        </p:nvSpPr>
        <p:spPr>
          <a:xfrm>
            <a:off x="3205440" y="507060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汇报人：      日期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文本框 1"/>
          <p:cNvSpPr/>
          <p:nvPr/>
        </p:nvSpPr>
        <p:spPr>
          <a:xfrm>
            <a:off x="3673080" y="3798720"/>
            <a:ext cx="169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项目名称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5256000" cy="78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汇报提纲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94920" y="1268280"/>
            <a:ext cx="84978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立项目的及意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取得主要成果及创新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考核指标完成情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经费使用情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存在的问题及解决方案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下一步科研工作计划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5256000" cy="78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考核指标完成情况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68360" y="1628640"/>
          <a:ext cx="8280360" cy="3627720"/>
        </p:xfrm>
        <a:graphic>
          <a:graphicData uri="http://schemas.openxmlformats.org/drawingml/2006/table">
            <a:tbl>
              <a:tblPr/>
              <a:tblGrid>
                <a:gridCol w="2070000"/>
                <a:gridCol w="2070000"/>
                <a:gridCol w="2070360"/>
                <a:gridCol w="2070000"/>
              </a:tblGrid>
              <a:tr h="5176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计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实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备注说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论文发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专利申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国际合作交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高级别项目申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个人成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其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5256000" cy="78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经费使用情况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26880" y="1341360"/>
          <a:ext cx="8421840" cy="5183280"/>
        </p:xfrm>
        <a:graphic>
          <a:graphicData uri="http://schemas.openxmlformats.org/drawingml/2006/table">
            <a:tbl>
              <a:tblPr/>
              <a:tblGrid>
                <a:gridCol w="658800"/>
                <a:gridCol w="2354400"/>
                <a:gridCol w="1190520"/>
                <a:gridCol w="1224000"/>
                <a:gridCol w="2994120"/>
              </a:tblGrid>
              <a:tr h="576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序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预算科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预算经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万元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实际支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万元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备注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(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简要说明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设备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材料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测试化验加工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差旅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国际合作与交流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会议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出版物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文献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信息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知识产权事务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合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5T02:29:51Z</dcterms:created>
  <dc:creator>Bowen</dc:creator>
  <dc:description/>
  <dc:language>en-US</dc:language>
  <cp:lastModifiedBy>Bowen</cp:lastModifiedBy>
  <dcterms:modified xsi:type="dcterms:W3CDTF">2015-11-26T06:25:28Z</dcterms:modified>
  <cp:revision>6</cp:revision>
  <dc:subject/>
  <dc:title>基本科研业务费项目 2015年度结题验收汇报</dc:title>
</cp:coreProperties>
</file>