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344-F281-4DD5-A487-442CB03869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677D-1082-44E8-8206-62989B0185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5B5-25E1-4396-BC17-2A91E4DC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E89-C2C3-441B-AE4D-65E953B4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562-DC2E-4E44-86F3-F87445CE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957-E03D-45F1-87FB-3135FA0F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510-1DAE-4821-937A-C72349E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5E0-AEFE-40EE-9909-3EA2152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CEA-4BA9-44FA-9498-40298CF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598-974D-499D-963E-A1B54F37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E03-8B1E-45F9-895B-04A22EE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025-4079-49EE-B543-F5E0D35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31A-AFE9-43EE-BA91-03A8406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85C-8EFC-44B5-9FF6-2F5E105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D646-6D91-422B-8974-C01FE1E04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度进展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项目主要进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取得主要成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06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本年度经费使用情况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项目总经费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本年度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累计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Windows User</cp:lastModifiedBy>
  <dcterms:modified xsi:type="dcterms:W3CDTF">2017-11-21T06:15:53Z</dcterms:modified>
  <cp:revision>9</cp:revision>
  <dc:subject/>
  <dc:title>基本科研业务费项目 2015年度结题验收汇报</dc:title>
</cp:coreProperties>
</file>