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CB54-C7A7-4D94-9A21-0E6472F80C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943E-EECB-44DF-BA10-47CD123E48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E21-9C8A-45DC-88EE-91CFFFF2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305-FC66-4932-B3C2-A9E269F1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E6C-9D19-453D-B14A-56C28F4E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B7A-6901-48A3-8856-293E47C0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AB5-4112-493F-AA82-5EEB891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F89-FCFB-473C-808B-2D590B4E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540-BDAC-4DDC-A1A6-3F8C2C5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D0E-741B-4336-8A3B-A73B7FC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5B6-C65B-4179-B7E2-3DB62D2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089-1A09-44D7-A129-79E07CF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F90-DD06-4249-A75D-E3DD279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842-3E4E-4E5D-A607-D3E14BFD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1836-5AAC-48F4-A0B2-B4B2177546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结题验收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得主要成果及创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核指标完成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考核指标完成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628640"/>
          <a:ext cx="8280360" cy="3627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论文发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利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合作交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别项目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成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经费使用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Bowen</cp:lastModifiedBy>
  <dcterms:modified xsi:type="dcterms:W3CDTF">2016-12-08T13:29:06Z</dcterms:modified>
  <cp:revision>8</cp:revision>
  <dc:subject/>
  <dc:title>基本科研业务费项目 2015年度结题验收汇报</dc:title>
</cp:coreProperties>
</file>