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F82-D0ED-4D7F-BF71-2AB0B0408F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720-868C-442B-9D5D-C4BBC6EE02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2BD-CB60-43E8-BD65-CAAF0E09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9D3-03B7-443A-8FAB-ACF104F3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D5B-AD20-456C-A9A0-F544389A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A10-BD6B-4828-ACE3-1081658B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F64-71E4-41A1-BBC1-A809871B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E6D-F997-45B8-92AC-2B896A3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DDB-D2FA-4780-B4EC-A966D2D0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2BC-E5BB-46F4-8F72-932602FF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878-5A88-4DB9-9A1C-045B6C63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0B6-1B09-4F49-834E-8123090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668-4393-45A3-9DE2-D32283C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2F5-4C8C-4B37-9C33-3FF74CB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1923-9F9A-4347-B9C6-E077D21D25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6080"/>
            <a:ext cx="7772400" cy="16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基本科研业务费项目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度进展汇报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034"/>
          <p:cNvSpPr/>
          <p:nvPr/>
        </p:nvSpPr>
        <p:spPr>
          <a:xfrm>
            <a:off x="3205440" y="5070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汇报人：      日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673080" y="37987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5256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汇报提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立项目的及意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项目主要进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年度取得主要成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经费使用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存在的问题及解决方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下一步科研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06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本年度经费使用情况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项目总经费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本年度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，累计拨款：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**</a:t>
            </a:r>
            <a:r>
              <a:rPr b="1" lang="zh-CN" sz="2000" spc="-1" strike="noStrike">
                <a:solidFill>
                  <a:srgbClr val="000000"/>
                </a:solidFill>
                <a:latin typeface="Calibri Light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6880" y="1341360"/>
          <a:ext cx="8421840" cy="5183280"/>
        </p:xfrm>
        <a:graphic>
          <a:graphicData uri="http://schemas.openxmlformats.org/drawingml/2006/table">
            <a:tbl>
              <a:tblPr/>
              <a:tblGrid>
                <a:gridCol w="658800"/>
                <a:gridCol w="2354400"/>
                <a:gridCol w="1190520"/>
                <a:gridCol w="1224000"/>
                <a:gridCol w="299412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科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预算经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支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要说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备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材料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测试化验加工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差旅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国际合作与交流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出版物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文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知识产权事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劳务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2:29:51Z</dcterms:created>
  <dc:creator>Bowen</dc:creator>
  <dc:description/>
  <dc:language>en-US</dc:language>
  <cp:lastModifiedBy>Windows User</cp:lastModifiedBy>
  <dcterms:modified xsi:type="dcterms:W3CDTF">2017-11-21T06:15:53Z</dcterms:modified>
  <cp:revision>9</cp:revision>
  <dc:subject/>
  <dc:title>基本科研业务费项目 2015年度结题验收汇报</dc:title>
</cp:coreProperties>
</file>