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A1A1-515D-4F77-AF7E-E26AA63CF4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E21E-D418-46F9-B2DC-07FC786A14E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A6A-8872-4202-B0F6-1BFA6B4C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E1E-AAFB-4750-8F40-2E6F79D8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962-A3EB-4982-9B93-D91E9F68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7A8-D5D0-4D66-8B75-83D09701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431-57A2-497B-88EB-6B7EB6A9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AB4-75F4-4B18-8B79-0DCC27C9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306-0A41-49DE-8CBF-172F0084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430-8A8C-4564-86DC-5F929306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81B-5D77-47D6-8D9C-B0644517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94E-FB5E-463D-BDEA-5B0CD1BF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7D3-2FED-47BA-B31E-300C8333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1FD-E216-488F-BFA3-973C8072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5B28-288C-4D60-96BF-EEE8A393C8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4608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基本科研业务费项目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结题验收汇报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1034"/>
          <p:cNvSpPr/>
          <p:nvPr/>
        </p:nvSpPr>
        <p:spPr>
          <a:xfrm>
            <a:off x="3205440" y="50706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汇报人：      日期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3673080" y="379872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项目名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汇报提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4920" y="126828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立项目的及意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取得主要成果及创新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考核指标完成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经费使用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存在的问题及解决方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下一步科研工作计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考核指标完成情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1628640"/>
          <a:ext cx="8280360" cy="362772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70360"/>
                <a:gridCol w="2070000"/>
              </a:tblGrid>
              <a:tr h="517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计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备注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论文发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利申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国际合作交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级别项目申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成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经费使用情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6880" y="1341360"/>
          <a:ext cx="8421840" cy="5183280"/>
        </p:xfrm>
        <a:graphic>
          <a:graphicData uri="http://schemas.openxmlformats.org/drawingml/2006/table">
            <a:tbl>
              <a:tblPr/>
              <a:tblGrid>
                <a:gridCol w="658800"/>
                <a:gridCol w="2354400"/>
                <a:gridCol w="1190520"/>
                <a:gridCol w="1224000"/>
                <a:gridCol w="299412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科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经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支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备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要说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设备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材料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测试化验加工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差旅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国际合作与交流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出版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文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信息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知识产权事务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劳务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02:29:51Z</dcterms:created>
  <dc:creator>Bowen</dc:creator>
  <dc:description/>
  <dc:language>en-US</dc:language>
  <cp:lastModifiedBy>Bowen</cp:lastModifiedBy>
  <dcterms:modified xsi:type="dcterms:W3CDTF">2016-12-08T13:29:06Z</dcterms:modified>
  <cp:revision>8</cp:revision>
  <dc:subject/>
  <dc:title>基本科研业务费项目 2015年度结题验收汇报</dc:title>
</cp:coreProperties>
</file>