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7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8" descr="000"/>
          <p:cNvPicPr/>
          <p:nvPr/>
        </p:nvPicPr>
        <p:blipFill>
          <a:blip r:embed="rId3"/>
          <a:stretch/>
        </p:blipFill>
        <p:spPr>
          <a:xfrm>
            <a:off x="6300720" y="77760"/>
            <a:ext cx="2305080" cy="646200"/>
          </a:xfrm>
          <a:prstGeom prst="rect">
            <a:avLst/>
          </a:prstGeom>
          <a:ln w="0">
            <a:noFill/>
          </a:ln>
        </p:spPr>
      </p:pic>
      <p:sp>
        <p:nvSpPr>
          <p:cNvPr id="2" name="Line 79"/>
          <p:cNvSpPr/>
          <p:nvPr/>
        </p:nvSpPr>
        <p:spPr>
          <a:xfrm>
            <a:off x="0" y="736560"/>
            <a:ext cx="8532720" cy="0"/>
          </a:xfrm>
          <a:prstGeom prst="line">
            <a:avLst/>
          </a:prstGeom>
          <a:ln w="22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Text Box 80"/>
          <p:cNvSpPr/>
          <p:nvPr/>
        </p:nvSpPr>
        <p:spPr>
          <a:xfrm>
            <a:off x="991800" y="6308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网络与继续教育学院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Line 81"/>
          <p:cNvSpPr/>
          <p:nvPr/>
        </p:nvSpPr>
        <p:spPr>
          <a:xfrm>
            <a:off x="611280" y="6265800"/>
            <a:ext cx="8532720" cy="0"/>
          </a:xfrm>
          <a:prstGeom prst="line">
            <a:avLst/>
          </a:prstGeom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66" descr="未命名插图 2"/>
          <p:cNvPicPr/>
          <p:nvPr/>
        </p:nvPicPr>
        <p:blipFill>
          <a:blip r:embed="rId2"/>
          <a:srcRect l="0" t="0" r="0" b="643"/>
          <a:stretch/>
        </p:blipFill>
        <p:spPr>
          <a:xfrm>
            <a:off x="0" y="4403880"/>
            <a:ext cx="9144000" cy="2468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67" descr="000"/>
          <p:cNvPicPr/>
          <p:nvPr/>
        </p:nvPicPr>
        <p:blipFill>
          <a:blip r:embed="rId3"/>
          <a:stretch/>
        </p:blipFill>
        <p:spPr>
          <a:xfrm>
            <a:off x="228600" y="304920"/>
            <a:ext cx="3200400" cy="895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68" descr="CUP反白稿"/>
          <p:cNvPicPr/>
          <p:nvPr/>
        </p:nvPicPr>
        <p:blipFill>
          <a:blip r:embed="rId4"/>
          <a:srcRect l="27866" t="78135" r="20125" b="0"/>
          <a:stretch/>
        </p:blipFill>
        <p:spPr>
          <a:xfrm>
            <a:off x="6657840" y="5699160"/>
            <a:ext cx="2133720" cy="87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30"/>
          <p:cNvSpPr/>
          <p:nvPr/>
        </p:nvSpPr>
        <p:spPr>
          <a:xfrm>
            <a:off x="3997080" y="36529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4.01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Text Box 202"/>
          <p:cNvSpPr/>
          <p:nvPr/>
        </p:nvSpPr>
        <p:spPr>
          <a:xfrm>
            <a:off x="1665360" y="1046160"/>
            <a:ext cx="6186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lim"/>
                <a:ea typeface="宋体"/>
              </a:rPr>
              <a:t>中国石油大学（北京）网络与继续教育学院</a:t>
            </a:r>
            <a:br>
              <a:rPr sz="2400"/>
            </a:br>
            <a:r>
              <a:rPr b="1" lang="zh-CN" sz="28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ulim"/>
                <a:ea typeface="宋体"/>
              </a:rPr>
              <a:t>XXXX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  <a:ea typeface="宋体"/>
              </a:rPr>
              <a:t>批次专升本毕业论文答辩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Text Box 203"/>
          <p:cNvSpPr/>
          <p:nvPr/>
        </p:nvSpPr>
        <p:spPr>
          <a:xfrm>
            <a:off x="187200" y="2017800"/>
            <a:ext cx="8595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Gulim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会计人员相关问题探讨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（每页不超过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行，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不多于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页）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  <a:ea typeface="宋体"/>
              </a:rPr>
              <a:t>                        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  <a:ea typeface="宋体"/>
              </a:rPr>
              <a:t>姓    名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 X X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  <a:ea typeface="宋体"/>
              </a:rPr>
              <a:t>专    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  <a:ea typeface="宋体"/>
              </a:rPr>
              <a:t>学习中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学习中心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  <a:ea typeface="宋体"/>
              </a:rPr>
              <a:t>指导教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 X X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  <a:ea typeface="宋体"/>
              </a:rPr>
              <a:t>答辩日期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XX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82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宋体"/>
                <a:ea typeface="宋体"/>
              </a:rPr>
              <a:t>答辩内容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研究目的、思路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(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研究工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3-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总结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谢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页）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2800" y="74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宋体"/>
                <a:ea typeface="宋体"/>
              </a:rPr>
              <a:t>研究目的、思路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876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研究目的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研究思路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ulim"/>
                <a:ea typeface="楷体_GB2312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31880"/>
            <a:ext cx="836136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宋体"/>
                <a:ea typeface="宋体"/>
              </a:rPr>
              <a:t>主要研究工作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阐述在本文中所做的主要工作、研究的主要内容及创新之处，可结合案例重点讲解</a:t>
            </a:r>
            <a:r>
              <a:rPr b="0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2800" y="284616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7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宋体"/>
                <a:ea typeface="宋体"/>
              </a:rPr>
              <a:t>总结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本文已得出的结论及完成情况，对实际工作的指导意义，有待进一步研究的内容</a:t>
            </a:r>
            <a:r>
              <a:rPr b="0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359160"/>
            <a:ext cx="822960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48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0" lang="zh-CN" sz="8000" spc="-1" strike="noStrike">
                <a:solidFill>
                  <a:srgbClr val="0000cc"/>
                </a:solidFill>
                <a:latin typeface="宋体"/>
                <a:ea typeface="宋体"/>
              </a:rPr>
              <a:t>谢 谢！</a:t>
            </a:r>
            <a:br>
              <a:rPr sz="8000"/>
            </a:br>
            <a:r>
              <a:rPr b="0" lang="zh-CN" sz="8000" spc="-1" strike="noStrike">
                <a:solidFill>
                  <a:srgbClr val="0000cc"/>
                </a:solidFill>
                <a:latin typeface="宋体"/>
                <a:ea typeface="宋体"/>
              </a:rPr>
              <a:t> 敬请批评指正！</a:t>
            </a:r>
            <a:endParaRPr b="0" lang="en-US" sz="8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6:12:53Z</dcterms:created>
  <dc:creator/>
  <dc:description/>
  <dc:language>en-US</dc:language>
  <cp:lastModifiedBy>吴晶804</cp:lastModifiedBy>
  <dcterms:modified xsi:type="dcterms:W3CDTF">2021-09-09T07:21:07Z</dcterms:modified>
  <cp:revision>51</cp:revision>
  <dc:subject/>
  <dc:title>幻灯片 1</dc:title>
</cp:coreProperties>
</file>